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5F6-E4C8-4642-9945-EC24A8DB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C19-06FF-4088-8A18-8267BE3C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835-1AD8-4C8A-9EBB-6A69E74E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3DD-1E3D-4FDB-8D36-77D6625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E24-9FBD-4E01-A3D9-9E1391E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56BF-C706-479D-88BD-17B721B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ADAD-FB1F-41E9-BC51-2D57C80C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1165-197D-4909-946F-945ED5D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DDD0-81AE-4510-9EBC-6A201FE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D9B6-9C48-4D3E-9ABB-4471565F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0874-EA84-4914-83A2-718CD41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180-37A5-436F-BF75-71595F7D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389-A0EA-413A-AD32-F7ED672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8A8E-B2D9-4BA1-844B-CD9CA4F9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0F98-EE56-4744-B930-72F8182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971-DC93-4BF4-8332-4ADAB508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2D74-8DF6-43E8-9280-468D451A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0B012-9D72-4941-9097-A8D133A9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FD3A7-6F00-4C24-8BD6-3A4654AB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54671-90A9-4DB2-8164-034D3BE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0DF8B-FEAB-45F6-95AB-FE4A6CA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9599F-9CB9-4A0A-8CB9-0DE91AD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0CB-2886-463D-9CC1-182E2258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B968A-84E7-44A0-8C4F-689B49C5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34669-008D-4DFF-B1F7-22A196B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41C60-C1F5-4553-8313-05DB09B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7638A-1DAC-4EE9-81E1-E5348E5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C8453-E838-49B7-83C4-3039AFC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FD55-4F26-43CD-AABB-C023DCE9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DC971-BF94-464F-8500-1047C104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5E9E-6AE6-45F4-BBE0-B2B863F5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2FDE-1ED8-4EF5-8261-7F52A0CA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6C06-74C9-4244-91A3-2691BBC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569-5029-45C1-BCB1-CD418CB9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3CC8-52F5-4D28-9690-5B8C516C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DB5B-BB33-4BF5-B664-0AB1B3F8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8F37-184E-43AC-A714-AA31627F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58F8-5FEB-4C40-8030-01E19E3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F173-2EDC-49BC-8506-513A524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742A-FC29-42CE-8008-46775D7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959F-1F0D-4CD8-B2DA-F3F01A2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3855-D348-46EE-BCE6-7A68D0FD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2E52-AB94-4AC5-BA08-89782AA3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EF61B-3172-4B73-8C95-870FE657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ED8-9F1C-44B5-A139-9D98E5E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F129F-5D16-4D5E-8ADE-D4A0098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3BBA6-512F-4BE4-B28C-BBE404A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32B6B-12C6-4A5C-8EF8-70EEBC25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2188E-783B-4A44-B57D-2CB0C89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23CD7-D35B-4873-9604-F85096F4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D9168-829E-4F0B-A894-9B81BB5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A1FBD-F648-46D0-88E8-AD30B2A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8DDA7-7F34-42FE-ADC0-C5129DC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37C23-D1B2-4A6A-9963-06AA0605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28D92-CA11-4B80-94E5-1C62452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708-DF59-4D2E-AF46-B7722FA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D93D4-731B-41B5-9920-7C2C874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04CB6-30DD-41D0-8765-09626F00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B40DE-2E7B-4A1D-A5D2-F16505A7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829B5-8F00-4322-8416-01416911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422EA-DCA6-4B3E-BC98-2C41776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83032-BDAA-4A3F-8AA9-3132852C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20074-E8FC-4065-A374-950C3F2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31181-8709-4A30-835B-5581DFC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33951-530C-4CE0-8680-2A571EA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B3A3A-30E7-4729-BF7C-E791F0C4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A05-249C-41CC-A1BC-C9594DF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E03EF-2BB1-46EF-B836-2AB89C3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EAE66-3E43-4E52-BBA4-2B4723F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433CA-E3D4-4A00-A990-E8667272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4A6E7-C795-4650-9C54-DBEEDCCB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2B31C-47F8-4CFF-8899-C8253B4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40419-2F31-41DA-A7BC-F48835F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23063-F674-4869-B1F4-380E2C8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75086-40B0-4127-97D7-4DA6B72B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B6242-138F-4255-B875-8AF2EA8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24A3C-400D-4112-9BF7-980CCA9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2D2-C891-4109-ADCD-E3E013C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8F790-E6F9-4D26-8717-689398D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37777-298D-4A1A-B4AE-3D96DFF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13272-46D0-451E-9B10-8A2C3D1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46256-AA14-4B4A-AFE0-A4F01F4D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BC2EF-0212-479E-8C02-50C2D044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F67-A1EA-45B2-9035-0E28437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84C8-6A58-4E31-8E2F-0C70A04360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AC64-95D9-4B18-BAA7-B55CF037E1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CC4-08BD-467F-90BE-13E64844B5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D13-E3A0-4DF4-866A-8594A5203C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D8CA-D6C0-4D88-B185-AAA4582A9F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F050-CA18-4860-BAAA-F4DF6E1A25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C75-22CD-4527-A0BE-0002EA3F99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FTH GRADE INFORMATION LITERACY REVIEW 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rs. Lott, Teacher Librari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RPOSES FOR THIS ACTIVITY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I NEED TO LOOK UP A DEFINITION FOR A WORD, I WOULD LOOK IN A(N)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CorShape1"/>
          <p:cNvSpPr/>
          <p:nvPr/>
        </p:nvSpPr>
        <p:spPr>
          <a:xfrm rot="10800000">
            <a:off x="172800" y="3422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l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cycloped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ctionar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lmanac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GLOSSARY IS A CONTENT-SPECIFIC DICTIONARY USUALLY LOCATED AT THE BACK OF A BOOK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TO READ A WORD OUT LOUD WOULD BE CALLED IT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yllabi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 YOU KNOW HOW TO TELL WHERE A WORD CAME FROM, OR ITS ORIGIN?  LET’S EXPLORE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 A DICTIONARY, THE WORD SPELLED PHOENETICALLY INSIDE THE SLASH MARKS AFTER THE ENTRY WORD TELLS YOU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the word mea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say the wor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use the word in a sent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part of speech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54:32Z</dcterms:created>
  <dc:creator>lot011118</dc:creator>
  <dc:description/>
  <dc:language>en-US</dc:language>
  <cp:lastModifiedBy>lot011118</cp:lastModifiedBy>
  <dcterms:modified xsi:type="dcterms:W3CDTF">2010-02-23T18:05:21Z</dcterms:modified>
  <cp:revision>8</cp:revision>
  <dc:subject/>
  <dc:title>Fifth Grade Information Literacy Review 2010</dc:title>
</cp:coreProperties>
</file>