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6C3-5174-472D-BD4D-A552B56E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CE0-4884-4444-BCD2-3BBE3EDC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5D1-CDE7-4EF2-A0C4-A2FA2E03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5A7-900C-46FB-841C-82E68F63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2EA5-6955-4B91-AFA6-5BA07EAC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0600-78E8-4FE6-99B3-07A248CC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4E2B-D3AE-424F-9769-1F2A850F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A5DA-B092-4E66-9ED5-77D575E4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2C51-94E1-42A4-904E-9D84749C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9B7D-F301-415E-91EE-0C9D383D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865B-E847-4995-B487-72A8CA95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F3F-C601-4015-AC3D-E2074F3D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0D06-8257-4F6D-84AD-B0583568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EEAE-8A0E-44B3-A68F-086AE74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BD00-20FD-4691-B114-9D589E03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7CE3-DD56-440B-B60D-8EA8D04C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000B-57F5-472C-B49D-C87BB2B03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37271-9457-4021-9D14-C4872191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880D4-038D-4C1C-B7AF-796EC6A0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DF020-2E2E-4F59-AAB6-C488E759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A66BE-DD5C-492D-BC9C-73DBFEB7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91112-420F-4E33-9E34-C0DBB4E8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85F-A6D0-476E-A005-BD4DF8F0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1A926-ED0B-4364-90EA-2EB76043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C60E1-09C6-49A7-9DBF-3506347D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848CC-7392-4DC3-A996-D75BA779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729FA8-CAD5-456B-871F-A03DDA4B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00A26-0224-474E-BFAE-91B08E6D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461B7-70B2-423C-B523-B5314A4E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A3601-D635-4B8F-A5C2-2E914542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72AB3-79F1-4130-94D5-80D870C7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2A103-771D-4A60-9845-DE6A2F35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22FE0-B393-4F3B-94E7-F43CA639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5B23-A496-4584-813E-26C5DB85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64D08-B856-476B-9A7B-4456343B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45284-AC30-4C93-88B7-E95B899C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7E9A7-7275-4174-9576-9C32C47C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D94E-D819-4A8B-817E-74BD53DA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215EC-4E0D-4900-B2BE-6A54259D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D8066-5953-4694-A4FD-4C0AA504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BC999-531E-43DD-A45B-A33C2C8F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80E3-A828-4E90-AC7D-63AE92B0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FEE46-873A-457B-B7D2-8D4DE91B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1677DC-0498-4BFD-9CDD-2972C63B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9EE-75B8-4FE8-AC52-14EA2EFC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FFFD2-D7AA-422A-BC8B-B9824FA5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4DD17-CDDB-4580-A127-F56567BB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499646-5BE7-47D3-8CB3-09F63A7C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415E4-F921-4EF4-A133-4A43FDAB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735E2-DBA3-4142-84BB-89FEE15C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8C04F-6647-4D9D-9A8D-FB1C0D1D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B3CDC-3959-4578-AD54-50FBA0CF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C0739-6839-492F-8444-E89C11FA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270FB2-14D3-4D98-BAA4-470ADBC9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D11C5-18A7-4E08-9FE9-9497B583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FB2-0EFE-4D65-8F5A-A0CB5E99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178B7-7582-4EC5-80AD-DE7B964C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F6A2A-6ECC-4120-9096-C0BCD02E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82B242-A440-4674-8726-806BC4A5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86451-4A7B-4036-A60D-37F52132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17E0C6-0657-4FCF-AE49-2958CE43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8D1BA-0088-436D-BFE8-49614A5B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B2C679-13AE-449F-A16C-DE34D10F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8A602-D4F3-4929-8B99-46F932F0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32EE3A-A8BF-4C58-90C2-86CB3A78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A0C332-242C-4EDA-BDBB-8570C052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A15-1D40-4C9C-8A49-59AE213F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2860D4-EE77-4617-8447-24855E05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DA1D2-AF9A-480D-B7E3-1BFFCC3C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4EAF63-B886-4F45-88D6-E110505A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D6CFE1-4537-4163-9AD7-BDFD0A53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4832FF-C809-4602-B149-B5A3BB14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D69C8-52E3-49C1-9B07-20FECA08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0BB581-93D8-4B22-B97C-C0BCD0AA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DAE6E-3DA3-4B84-B26E-9723FCA5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596689-64DD-49B2-B51A-66DDF4B7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289A9-7DA2-4037-8C3B-1D5E17F1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6A8-20C7-4FE5-89A9-00878892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7D1D03-92E2-42FA-9F88-17A73495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2A37D-58B8-402B-A962-D4F23830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C9847E-8C6F-4528-AD2A-F5BED170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79DE3D-6380-4AB7-9C68-0B6849086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620C1-B84B-477E-8A17-1FFC8149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CD4-E7A3-4B66-8C48-824D51FD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87AA-7D05-40AA-A5BA-AA6E9F5287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5AB6-7624-432F-8C18-EC71B547F9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0DA3-BB3A-40E2-A8CC-BA1EB982BE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F547-688D-4AB5-8909-9D73C5A61F2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0449-B59C-4527-B90D-07C0EDB441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222D-B5D9-430F-B397-EFDD65AF21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FC75-4D06-484A-8486-28D0B8FB6E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FIFTH GRADE INFORMATION LITERACY REVIEW 2010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rs. Lott, Teacher Libraria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7467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URPOSES FOR THIS ACTIVITY: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F I NEED TO LOOK UP A DEFINITION FOR A WORD, I WOULD LOOK IN A(N)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CorShape1"/>
          <p:cNvSpPr/>
          <p:nvPr/>
        </p:nvSpPr>
        <p:spPr>
          <a:xfrm rot="10800000">
            <a:off x="172800" y="342252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tla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ncyclopedi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sauru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ictionary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lmanac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 GLOSSARY IS A CONTENT-SPECIFIC DICTIONARY USUALLY LOCATED AT THE BACK OF A BOOK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CorShape1"/>
          <p:cNvSpPr/>
          <p:nvPr/>
        </p:nvSpPr>
        <p:spPr>
          <a:xfrm rot="10800000">
            <a:off x="172800" y="176364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TO READ A WORD OUT LOUD WOULD BE CALLED IT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CorShape1"/>
          <p:cNvSpPr/>
          <p:nvPr/>
        </p:nvSpPr>
        <p:spPr>
          <a:xfrm rot="10800000">
            <a:off x="172800" y="176364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onunci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yllabic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DO YOU KNOW HOW TO TELL WHERE A WORD CAME FROM, OR ITS ORIGIN?  LET’S EXPLORE!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N A DICTIONARY, THE WORD SPELLED PHOENETICALLY INSIDE THE SLASH MARKS AFTER THE ENTRY WORD TELLS YOU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at the word mea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ow to say the wor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ow to use the word in a senten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at part of speech it i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7:54:32Z</dcterms:created>
  <dc:creator>lot011118</dc:creator>
  <dc:description/>
  <dc:language>en-US</dc:language>
  <cp:lastModifiedBy>lot011118</cp:lastModifiedBy>
  <dcterms:modified xsi:type="dcterms:W3CDTF">2010-02-23T18:05:21Z</dcterms:modified>
  <cp:revision>8</cp:revision>
  <dc:subject/>
  <dc:title>Fifth Grade Information Literacy Review 2010</dc:title>
</cp:coreProperties>
</file>