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8FB-9104-459D-858F-820A6C9D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03E-1C0F-49DB-8F1A-AE4DEA7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800-C87A-4513-8DCC-ABF8E53D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A3A-927A-4251-BCC6-A15D3297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F3D-62DA-46ED-8774-FB1FAD3D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E515-6E4E-471D-BE40-DAD5ED4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F321-72C5-4A6C-A494-5C2DA90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C824-8084-4D04-8D6D-D890869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8839-0739-415E-9959-56B42815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C9A-F071-45C4-815D-F11027F7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4E70-E3C6-4A7F-89BC-826E903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E8A-6ED5-4CB7-AADB-2BB2AA3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CE2E-5F98-4190-BF18-BD237AD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3870-060A-4CFA-AF4B-EA73C7C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8C26-CA06-4588-BB3A-276F1E48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7670-0B02-4D25-95CA-B14D9FB8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C7D4-2A2E-4950-ADAA-2B4BB855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B5832-56E2-410C-ABBE-DCEA2142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0629F-9761-4DA1-81EE-916D253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CB9C8-A01F-4D03-BFE5-655C3482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8F420-36AB-4292-825B-BF71A893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CC648-028B-4797-9A99-CC1E8F9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558-C4E0-4C30-92DD-EDF0A5AA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BCD9D-31EC-4A82-90DC-DA10A895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CEE3F-CB2E-4DEB-B7D1-B7C15FE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A0FF0-D7EC-48EA-B7E0-3534B81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871CF-A835-4745-B967-E7048D4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35350-532C-4359-8E87-8EBE5DB9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356B7-9D29-48B3-A45E-80F6A38B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1CB5F-6D84-49C8-B00A-B1F05F19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33FB-1BC2-49CC-B41F-6B2A13B7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6D22-D27C-4631-91C5-59A19BFF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B423-78EC-4786-A1A8-0B381CEB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B80-4EF7-41F9-BEF2-9AFEEF03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5935-B0B8-400F-9CA2-2AA42CB6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C6AC-363D-4051-BEC5-B1858880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E9CA-A31A-40FB-9A56-60649471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5E83-1B51-4BEF-9E8B-3BB9BBD7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9844-3951-4B97-9CBB-68E825A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09C4-40F0-4DE7-961F-E203531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DF2B-0911-4F44-A194-E650687B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275A-1819-44AA-BBA1-E6759B3F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7A62-CCCE-4CB2-8271-A28ED5CF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B6BD9-72D1-43CD-836B-2DD7AE33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4F6-5D04-4E2E-A311-6D6924DE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0CF1E-5CAD-453E-AFD7-8B006BBA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60B78-95D1-4452-B8B8-91581D39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5EA28-9EC4-43C3-BF8F-766B021E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96C4A-8CEE-4184-80A0-F5327CC0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74064-5D5D-4C59-A884-E2DAE5D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B760F-4C53-4A13-8A83-C9F9C74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7A863-9E67-4852-8960-B973A8E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27B33-B40E-4C3C-8A89-24721BB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83FE2-0EF3-49B4-80C4-D1D46D34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1480C-917D-4794-AB6A-88961852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02B-9CCC-41F3-AE1D-F9677D7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FF2B1-7FD2-4518-B24D-9B360F47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2D351-BC53-4AA9-92F0-E9C3F5FA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648CB-DEC1-46EA-98CA-A8ADA21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E6F0C-F9E7-4117-93D7-E5D9D18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E66B9-788D-4FA3-9F1B-1BF3882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6C91C-0E12-4F0A-A3A7-5C3103C9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DA51C-B066-414A-ACCB-9B57F824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538DB-93DC-40F0-89F6-0AF96BA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9B06F-0984-4B2B-93DA-78B0CB9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3DDE7-EF6C-4BED-BADB-32E2041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296-7A18-414F-BE26-A335A13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88D29-E5B9-4A36-87B0-75954FD8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117D8-F2F3-4FAB-860F-1516D2F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9179D-04BA-4DFD-810E-414A573F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3716F-8A2D-4725-96F0-8651FF8F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01052-D9DA-4F8C-AA68-0A57293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88328-DCA2-477C-A4E5-2D6F307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B78C3-036A-4E64-9151-500F847D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6E3C3-A588-4128-AE68-1AFC813C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F2088-D46C-4944-90CC-81E8AA1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6AA89-13AC-4CC6-AAC6-33D02F84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07F-226A-40C1-845A-8B3E4C5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B6DDC-2A9A-47FC-9901-1975CF1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90AF6-23EF-42C0-8F2B-30C8661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6D5B4-D6FC-4155-8159-1052EFA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51ECD-54A8-4F28-9581-86353101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F63C4-6BDD-4886-A537-B5B16A36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EDE-C8F7-4DED-9181-FC1B182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710E-14F6-4FC3-B730-0DCBCB108B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9DD0-DDB2-441A-BDD3-D91BBB2AFF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B5D-F153-4B22-BCB5-C7FC352033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37DA-B573-4073-911E-6AEFEE15D5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92C6-0C6A-4D02-BCC6-EE4952D312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BD54-80A5-43B8-A9E6-BBDF9ED19D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3BF7-8F67-4954-9666-F8DC1C2605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IFTH GRADE INFORMATION LITERACY REVIEW 20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rs. Lott, Teacher Librari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RPOSES FOR THIS ACTIVITY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I NEED TO LOOK UP A DEFINITION FOR A WORD, I WOULD LOOK IN A(N)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CorShape1"/>
          <p:cNvSpPr/>
          <p:nvPr/>
        </p:nvSpPr>
        <p:spPr>
          <a:xfrm rot="10800000">
            <a:off x="172800" y="34225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l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cycloped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sauru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ictionar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lmanac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GLOSSARY IS A CONTENT-SPECIFIC DICTIONARY USUALLY LOCATED AT THE BACK OF A BOOK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TO READ A WORD OUT LOUD WOULD BE CALLED IT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nunci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yllabi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 YOU KNOW HOW TO TELL WHERE A WORD CAME FROM, OR ITS ORIGIN?  LET’S EXPLORE!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N A DICTIONARY, THE WORD SPELLED PHOENETICALLY INSIDE THE SLASH MARKS AFTER THE ENTRY WORD TELLS YOU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the word mea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say the wor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use the word in a sent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part of speech it 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54:32Z</dcterms:created>
  <dc:creator>lot011118</dc:creator>
  <dc:description/>
  <dc:language>en-US</dc:language>
  <cp:lastModifiedBy>lot011118</cp:lastModifiedBy>
  <dcterms:modified xsi:type="dcterms:W3CDTF">2010-02-23T18:05:21Z</dcterms:modified>
  <cp:revision>8</cp:revision>
  <dc:subject/>
  <dc:title>Fifth Grade Information Literacy Review 2010</dc:title>
</cp:coreProperties>
</file>