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63F-D722-4672-8334-B5562736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BB8-787E-4872-8D92-60A210D6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E27-1EB0-4DBC-8AA0-5F5F33FA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34D1-75AA-4F56-8128-3EEE0667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EE24-B2C6-47C5-A934-012255AF6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0398-9A35-4D98-9D52-BE61A2D5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5E0C-BE0A-4821-9B54-6B5EE917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E48-6E64-45D1-B2B8-E18949BC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9F04-0B78-4202-8B40-F04E9A78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ADC2-1434-479B-AF82-D7EFC1BF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35A3-22C4-4F2E-9C95-D959E0F6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CCB-7BC8-47D5-833C-31B5E366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B6C7-F597-495D-9E4A-14A8E19E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91F9-DCD4-4D6B-A524-A15ED35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5DF9-BD1A-4E28-A982-58032DDB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62A7-8AB7-40A7-9156-907D4B69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477F-C454-4901-9A7A-25131F77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14F7E4-02AB-4299-B53E-89CCB3E2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A59F13-2B22-4A58-9C54-4C9F55A1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E08A8-2B1B-4AA7-9E78-8A3BC00F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1D995-E635-4BD7-95BF-36DE1E1B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67367-E559-4CF4-9006-57D1FB98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4DB-7668-4BF1-AF04-4D221160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FA716-D889-4D1E-B59F-330A6A1C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C5326-E886-4C7D-B8DC-D6D6A88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0367-D58C-45B0-8804-AC420E5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26F0D-36A0-41CF-918D-39A418D6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BBA383-69B2-4C4D-8D5A-4263734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23C6E-09A1-4C68-993A-FD4C0787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A3F731-8A5B-481E-86D0-F6F7C077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23F2E-384F-4307-8387-348E7ED3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8230-F9A6-4A82-AC53-C56D3A0F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14D6-E9A7-4D97-8347-E29F13F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FB6-6A6B-4C96-BD50-645A02C7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E4696-7E6A-41F6-ADA3-BF568402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AC7C-AB40-4407-9AA7-447BF7D1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B372-98AE-45F4-80DC-1B0DB20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CAE21-18FB-48D3-AD36-310CD0C0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180F-0428-4181-B533-D5694B35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4A30-FA86-4717-B2E4-044BEBF9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273A-5EBE-4DCB-BA16-5B3D2BD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C4DF-7381-48DF-BBE9-C7BEDFE5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A87E7-DCEA-4039-82BA-64C87497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B781C-145A-4C10-9877-E4B61685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71D-7AAB-4424-B4CC-80F9484C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339BF-1FC0-4587-A339-FA430C87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4A805-A55D-4901-A0BB-37EC2B2D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17374-BACF-42ED-B010-CB329A75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94B8A-5CA4-4037-8FFC-91D95C47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6CED8-1484-4A65-A185-07A6D4A8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374723-2ED3-4FD2-9FD3-935E04DF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CC369-DB97-46C7-A672-C0500704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624E6-8FC1-492D-8E96-2E2EF1CF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9A085C-4B60-49AC-B1B5-0358687F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EE6DB-8D8D-4182-8127-335BE06B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D9F-282E-4EEB-90AD-214A3730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2A8303-5D8B-4A0F-BA16-3707C9FC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32A8C-DDA7-496A-A378-B6D05E95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C4CD74-8BFA-4871-85B8-9669D3A7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4CE7B-61D9-4C84-98ED-B5B735C1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FA004F-7AA5-487F-B180-10E9512C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A4387-9747-4802-B3C9-38C716CE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CC4C1F-1038-4863-93A9-B98593DD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E04B15-FF16-4812-A2D8-2168A090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2E89C1-F715-4400-A8BB-C0D03D18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FA2A4-FF4C-47BC-8252-04BFB0CB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E7F-A0D4-4221-A4DD-10D29C8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7E657-73DB-4F9F-A4F3-5A0A377A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AF510-79D1-491F-839C-5A9174A3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FDAF57-60A1-4E3D-B9A9-D525ECEC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9B3EB-14A1-44A7-A437-2C6A8918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65C6AA-EAFC-4F51-AA1E-AB7974E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EBBC2-934F-4647-A0FB-0C7521D2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059BA-3360-4425-8635-4F80D6E9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26BE5-C594-453C-B7CB-2C87BCA7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256865-E771-4012-A15E-41DA4DB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93C28-CA38-4699-B0BC-A42C1849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E08-7EC9-4A80-9590-5F050F0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247DA-956D-4433-A62C-48FFF4A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8F05C-B292-4329-86DE-2B8EBA42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FA776D-C1EC-4C48-8909-AA666C38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3CF1D-B7F6-47FF-BEA5-41C009F4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50E07-15C6-4A60-B07B-5FF0E76A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C9AD-BDB7-41DA-8BE3-96CDD329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F648-7F11-451E-AD3D-60195A4E27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D488-10C9-4E79-A41A-B676ED4D19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7F3-7D98-47D1-93FA-9718AF2F21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27B5-5E2E-420E-8C49-B5CA10D1551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6178-201B-466E-BBF7-D371A7CDBB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B8B7-B4BD-422A-A201-F4D17DFB1C7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927-5B17-46FA-AE1F-FBF85707F9F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FIFTH GRADE INFORMATION LITERACY REVIEW 20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rs. Lott, Teacher Libraria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74674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URPOSES FOR THIS ACTIVITY: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F I NEED TO LOOK UP A DEFINITION FOR A WORD, I WOULD LOOK IN A(N)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CorShape1"/>
          <p:cNvSpPr/>
          <p:nvPr/>
        </p:nvSpPr>
        <p:spPr>
          <a:xfrm rot="10800000">
            <a:off x="172800" y="342252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tla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ncycloped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sauru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ctionary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lmanac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 GLOSSARY IS A CONTENT-SPECIFIC DICTIONARY USUALLY LOCATED AT THE BACK OF A BOOK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W TO READ A WORD OUT LOUD WOULD BE CALLED IT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rShape1"/>
          <p:cNvSpPr/>
          <p:nvPr/>
        </p:nvSpPr>
        <p:spPr>
          <a:xfrm rot="10800000">
            <a:off x="172800" y="1763640"/>
            <a:ext cx="355320" cy="355680"/>
          </a:xfrm>
          <a:custGeom>
            <a:avLst/>
            <a:gdLst>
              <a:gd name="textAreaLeft" fmla="*/ 0 w 355320"/>
              <a:gd name="textAreaRight" fmla="*/ 355680 w 3553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524001" h="1752601">
                <a:moveTo>
                  <a:pt x="1295400" y="1066800"/>
                </a:moveTo>
                <a:lnTo>
                  <a:pt x="1524000" y="533400"/>
                </a:lnTo>
                <a:lnTo>
                  <a:pt x="914400" y="0"/>
                </a:lnTo>
                <a:lnTo>
                  <a:pt x="0" y="1447800"/>
                </a:lnTo>
                <a:lnTo>
                  <a:pt x="0" y="1752600"/>
                </a:lnTo>
                <a:lnTo>
                  <a:pt x="990600" y="533400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yllabication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 YOU KNOW HOW TO TELL WHERE A WORD CAME FROM, OR ITS ORIGIN?  LET’S EXPLORE!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N A DICTIONARY, THE WORD SPELLED PHOENETICALLY INSIDE THE SLASH MARKS AFTER THE ENTRY WORD TELLS YOU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the word mea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say the wor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ow to use the word in a sentenc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Bef>
                <a:spcPts val="799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What part of speech it i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7:54:32Z</dcterms:created>
  <dc:creator>lot011118</dc:creator>
  <dc:description/>
  <dc:language>en-US</dc:language>
  <cp:lastModifiedBy>lot011118</cp:lastModifiedBy>
  <dcterms:modified xsi:type="dcterms:W3CDTF">2010-02-23T18:05:21Z</dcterms:modified>
  <cp:revision>8</cp:revision>
  <dc:subject/>
  <dc:title>Fifth Grade Information Literacy Review 2010</dc:title>
</cp:coreProperties>
</file>